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08E-CEA2-4647-AFB5-B8E58D4E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0C6-B118-40AD-AFEF-B2F8F418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EF7-A97B-43C5-A166-A93CE7D3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D46-34ED-4AD9-9B59-14865A33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240-1178-4641-A6CF-0F62FA7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2DA-D981-4EC5-ACA5-1E3894B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A69-04E6-4130-B132-B09CE1C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57C-E7FB-4B6D-9731-288D008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9A1-57DB-4C38-90C4-D688A2EB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09F-E1FC-47B2-AAE6-C4C4389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677-7CA6-4456-A1F5-C9A2FE2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062-97F0-4E82-9599-2E2AFB7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D74-3682-48A5-B456-D0CCEC1A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ville-va.gov/upload/images/EOC/Sacret%2520Heart%25203.jpg&amp;imgrefurl=http://www.danville-va.gov/page.asp%3Fmenuid%3D2820%26sub1menuid%3D2830%26sub2menuid%3D5064%26sub3menuid%3D8843&amp;usg=__ij-FPdLx3B2tVUgl3zzspZupDUw=&amp;h=336&amp;w=448&amp;sz=44&amp;hl=en&amp;start=86&amp;tbnid=GUTtBBmKUKq8YM:&amp;tbnh=95&amp;tbnw=127&amp;prev=/images%3Fq%3Ddisaster%2B%2B%2Bplan%26start%3D80%26gbv%3D2%26ndsp%3D20%26hl%3Den%26safe%3Dactive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doni MT Black"/>
              </a:rPr>
              <a:t>Fierce Flo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By: Victoria, Alana, Dashaun, Jasmi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71520"/>
            <a:ext cx="74678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 they  have  to do  to  b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are  going  to  have  to   go   o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 the  hall  to  be  safe  and   get  dow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 there  knees  and  cover  there  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Disaster  Survival 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id kit   can foods  water  pillow  and pe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ritain flash floods"/>
          <p:cNvPicPr/>
          <p:nvPr/>
        </p:nvPicPr>
        <p:blipFill>
          <a:blip r:embed="rId1"/>
          <a:stretch/>
        </p:blipFill>
        <p:spPr>
          <a:xfrm>
            <a:off x="1219320" y="380880"/>
            <a:ext cx="6553080" cy="5915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 are  floods form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vers 70% of the Earth’s surface, such as lakes, oceans, seas, rivers and much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are form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waves are rolled on normally d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rains more than the land can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loods can happen after a hurric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 Floo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loods can make people drown and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Floods can destroy a lot of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 strong  are flo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very strong.  A flood can move a car, house, and sweep us away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2871720"/>
            <a:ext cx="60958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 do  floods 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can occur at any time of the year. It all depends on the location, climate, and lo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 do  floods mostly occur 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 United  sta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occur in Oklah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m  ch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hase storms and fi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aidley storm chaser 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19:49Z</dcterms:created>
  <dc:creator>Neo</dc:creator>
  <dc:description/>
  <dc:language>en-US</dc:language>
  <cp:lastModifiedBy>Shannon Hill</cp:lastModifiedBy>
  <dcterms:modified xsi:type="dcterms:W3CDTF">2008-12-21T05:57:05Z</dcterms:modified>
  <cp:revision>4</cp:revision>
  <dc:subject/>
  <dc:title>Fierce Floods</dc:title>
</cp:coreProperties>
</file>